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26.wmf" ContentType="image/x-wmf"/>
  <Override PartName="/ppt/media/image22.wmf" ContentType="image/x-wmf"/>
  <Override PartName="/ppt/media/image19.png" ContentType="image/png"/>
  <Override PartName="/ppt/media/image20.jpeg" ContentType="image/jpeg"/>
  <Override PartName="/ppt/media/image21.png" ContentType="image/png"/>
  <Override PartName="/ppt/media/image6.jpeg" ContentType="image/jpeg"/>
  <Override PartName="/ppt/media/image5.wmf" ContentType="image/x-wmf"/>
  <Override PartName="/ppt/media/image7.wmf" ContentType="image/x-wmf"/>
  <Override PartName="/ppt/media/image12.wmf" ContentType="image/x-wmf"/>
  <Override PartName="/ppt/media/image9.jpeg" ContentType="image/jpeg"/>
  <Override PartName="/ppt/media/image11.wmf" ContentType="image/x-wmf"/>
  <Override PartName="/ppt/media/image17.jpeg" ContentType="image/jpeg"/>
  <Override PartName="/ppt/media/image13.wmf" ContentType="image/x-wmf"/>
  <Override PartName="/ppt/media/image8.jpeg" ContentType="image/jpeg"/>
  <Override PartName="/ppt/media/image31.jpeg" ContentType="image/jpeg"/>
  <Override PartName="/ppt/media/image4.jpeg" ContentType="image/jpeg"/>
  <Override PartName="/ppt/media/image32.png" ContentType="image/png"/>
  <Override PartName="/ppt/media/image1.jpeg" ContentType="image/jpeg"/>
  <Override PartName="/ppt/media/image15.wmf" ContentType="image/x-wmf"/>
  <Override PartName="/ppt/media/image33.png" ContentType="image/png"/>
  <Override PartName="/ppt/media/image16.wmf" ContentType="image/x-wmf"/>
  <Override PartName="/ppt/media/image34.png" ContentType="image/png"/>
  <Override PartName="/ppt/media/image35.png" ContentType="image/png"/>
  <Override PartName="/ppt/media/image28.wmf" ContentType="image/x-wmf"/>
  <Override PartName="/ppt/media/image30.png" ContentType="image/pn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media/image25.wmf" ContentType="image/x-wmf"/>
  <Override PartName="/ppt/media/image10.jpeg" ContentType="image/jpeg"/>
  <Override PartName="/ppt/media/image14.png" ContentType="image/png"/>
  <Override PartName="/ppt/media/image18.gif" ContentType="image/gi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FAB63-0848-4F84-845C-D3A135CE68E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A9198-178E-4EFE-8EF9-FE106F98B2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D574F-12EA-4464-A5E3-1F25BC1BEC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7DAB2-16B3-40D2-B031-4B91460C87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8C972-F1C3-4E2E-A389-1A675E7005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78BF0-F30A-484C-B747-8B98DA0018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23546-BE85-434B-BDAF-01E78AAFF0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6978-CE24-4593-8778-A0FF89622A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16098-9365-4ECE-ABBA-A29376464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F4D2C-BF28-49E3-9281-51EC390F1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3A9-57EC-47F9-8D49-7FB12C00BE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685800" y="434484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8BF7D-21C4-4B9E-BD4D-2D0ABE0B8A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26DF9-7197-4ED0-AA0D-BDF310C9B7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2D459-8333-415D-A037-E29CCE8668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70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5A0E3-1F90-4591-8E9E-BF6D512D8D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25536-7BCF-4D6B-A0BB-02E9D2D0DD6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54B6C-B77E-443B-B4AE-C4A5FAF57B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13E66-1045-4948-A0C5-FD7A13225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E5925-960C-4209-A4A6-F37457103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431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5D332-0F58-48E7-BEF6-53C6256224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732066-9392-4E6D-9DC8-B0B92403BCF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281148-0B2F-49D2-8301-725E51CBC2B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F38274-17D6-4B3F-BA2C-BDF2139BA5E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9EFBC-9AEB-4C70-9958-7C5EE6D5A2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D17C-61ED-40D5-B42C-ABEA28B5BAD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ED84-BCC9-4ECA-B785-5E78655A2E5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6D141-4F1D-4C73-A03C-B01719DE5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EBA7-13CA-454D-985E-D07715DC7CB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AE172-0588-4DEC-9503-A54A3B1B978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A8572-E10C-4470-BF99-8ECBCE751A9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55096-69C9-471C-B46E-F0E3A9848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FC1BC9-C0DB-49F2-863C-1F6ED32124D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B3A9F-F7DE-4371-ABE7-8A34434D33E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426BD-015C-4FC2-80D3-3F206F0328C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B55B-4EDE-42A2-B550-8527F3A9362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54324-F971-430B-B443-4A289B0FA1C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72794-E6F0-4144-ACFE-C6D0CF9233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FEF67-F93A-402E-9FB2-78F7731175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4F6C90-B339-4BD9-8068-2675056F59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5064A9-D5D8-45FD-9E50-D6DDEA128EE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2E8A8-F3F2-4DA4-A240-B87E4426BCC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93119-7C46-45B5-BE56-8A23F6B264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C789B5-F50F-4564-B1B4-043BCA9F7D5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2D092-3601-4BF9-BEE3-50D5747182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24852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87FFD-D7C6-43DB-A6B5-80FE7AB9C5A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19927-EBAB-4C89-B30F-B55FB6FD82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6" name="Picture 7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696080" y="621504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wmf"/><Relationship Id="rId4" Type="http://schemas.openxmlformats.org/officeDocument/2006/relationships/image" Target="../media/image29.wmf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5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8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2971800" y="1981080"/>
            <a:ext cx="594360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Verdana"/>
              </a:rPr>
              <a:t>Purchasing and Invento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E3CAF-E75F-466D-8BC3-1B1BFCCE3FE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How to Implement 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276720" y="2743200"/>
            <a:ext cx="3124080" cy="2057400"/>
          </a:xfrm>
          <a:prstGeom prst="ellipse">
            <a:avLst/>
          </a:prstGeom>
          <a:solidFill>
            <a:srgbClr val="ffcc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048120" y="3048120"/>
            <a:ext cx="3124080" cy="12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VENTORY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657600" y="1295280"/>
            <a:ext cx="2438280" cy="1219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477120" y="2133720"/>
            <a:ext cx="2209680" cy="12952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324480" y="4191120"/>
            <a:ext cx="2362320" cy="152388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5029200"/>
            <a:ext cx="2361960" cy="137160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4267080"/>
            <a:ext cx="2209680" cy="152424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2057400"/>
            <a:ext cx="2133720" cy="14479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276720" y="1295280"/>
            <a:ext cx="27432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629400" y="228600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alyz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nee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4419720"/>
            <a:ext cx="2514600" cy="155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inimum stock nee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429000" y="5257800"/>
            <a:ext cx="25146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evelop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ms and lo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62120" y="4343400"/>
            <a:ext cx="27432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stablish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ystem for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eiving, stor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85800" y="2057400"/>
            <a:ext cx="26668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Maintain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876920" y="2514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flipH="1">
            <a:off x="6172200" y="3048120"/>
            <a:ext cx="3808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172200" y="4343400"/>
            <a:ext cx="30492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876920" y="48006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3124080" y="43434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289548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8F21C8-10F9-4E24-A040-8D5A13D1A1DE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nalyze Nee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3059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analysis of supply and reagent needs by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listing all tests in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ing all supplies needed for each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-245520">
              <a:lnSpc>
                <a:spcPct val="120000"/>
              </a:lnSpc>
              <a:spcBef>
                <a:spcPts val="799"/>
              </a:spcBef>
              <a:buClr>
                <a:srgbClr val="0000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available information to estimate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390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913588-F565-48F1-8741-E34F59EDC8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Analysis of Needs: Information Requ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542880" y="1352160"/>
            <a:ext cx="8217000" cy="4578480"/>
            <a:chOff x="542880" y="1352160"/>
            <a:chExt cx="8217000" cy="4578480"/>
          </a:xfrm>
        </p:grpSpPr>
        <p:sp>
          <p:nvSpPr>
            <p:cNvPr id="279" name="_s198691"/>
            <p:cNvSpPr/>
            <p:nvPr/>
          </p:nvSpPr>
          <p:spPr>
            <a:xfrm flipH="1" flipV="1">
              <a:off x="2615400" y="3436920"/>
              <a:ext cx="1023120" cy="1908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_s198685"/>
            <p:cNvSpPr/>
            <p:nvPr/>
          </p:nvSpPr>
          <p:spPr>
            <a:xfrm>
              <a:off x="542880" y="2630880"/>
              <a:ext cx="2131200" cy="123192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Storage space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, </a:t>
              </a:r>
              <a:br>
                <a:rPr sz="16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ditions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_s198690"/>
            <p:cNvSpPr/>
            <p:nvPr/>
          </p:nvSpPr>
          <p:spPr>
            <a:xfrm flipH="1">
              <a:off x="3392640" y="4312800"/>
              <a:ext cx="630360" cy="504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_s198672"/>
            <p:cNvSpPr/>
            <p:nvPr/>
          </p:nvSpPr>
          <p:spPr>
            <a:xfrm>
              <a:off x="1705320" y="4698360"/>
              <a:ext cx="2131200" cy="12322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Order lead time/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elivery time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_s198689"/>
            <p:cNvSpPr/>
            <p:nvPr/>
          </p:nvSpPr>
          <p:spPr>
            <a:xfrm>
              <a:off x="5271840" y="4312800"/>
              <a:ext cx="634680" cy="5022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_s198670"/>
            <p:cNvSpPr/>
            <p:nvPr/>
          </p:nvSpPr>
          <p:spPr>
            <a:xfrm>
              <a:off x="5465520" y="4698360"/>
              <a:ext cx="2131200" cy="1232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5720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riority Level</a:t>
              </a:r>
              <a:br>
                <a:rPr sz="2000"/>
              </a:b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_s198688"/>
            <p:cNvSpPr/>
            <p:nvPr/>
          </p:nvSpPr>
          <p:spPr>
            <a:xfrm flipV="1">
              <a:off x="5657040" y="3434400"/>
              <a:ext cx="1023120" cy="192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198667"/>
            <p:cNvSpPr/>
            <p:nvPr/>
          </p:nvSpPr>
          <p:spPr>
            <a:xfrm>
              <a:off x="6628680" y="2630880"/>
              <a:ext cx="2131200" cy="1231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>
              <a:noAutofit/>
            </a:bodyPr>
            <a:p>
              <a:pPr marL="457200" algn="ctr">
                <a:lnSpc>
                  <a:spcPct val="12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sage/month </a:t>
              </a:r>
              <a:br>
                <a:rPr sz="1600"/>
              </a:b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(quantification)</a:t>
              </a:r>
              <a:br>
                <a:rPr sz="1600"/>
              </a:b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198687"/>
            <p:cNvSpPr/>
            <p:nvPr/>
          </p:nvSpPr>
          <p:spPr>
            <a:xfrm flipV="1">
              <a:off x="4647600" y="2581920"/>
              <a:ext cx="0" cy="6210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198665"/>
            <p:cNvSpPr/>
            <p:nvPr/>
          </p:nvSpPr>
          <p:spPr>
            <a:xfrm>
              <a:off x="3583800" y="1352160"/>
              <a:ext cx="2131200" cy="12319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100" spc="-1" strike="noStrike">
                  <a:solidFill>
                    <a:srgbClr val="000000"/>
                  </a:solidFill>
                  <a:latin typeface="Arial"/>
                </a:rPr>
                <a:t>Unit of count</a:t>
              </a:r>
              <a:br>
                <a:rPr sz="2100"/>
              </a:b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198662"/>
            <p:cNvSpPr/>
            <p:nvPr/>
          </p:nvSpPr>
          <p:spPr>
            <a:xfrm>
              <a:off x="3583800" y="3203640"/>
              <a:ext cx="2131200" cy="123192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489240" tIns="0" bIns="0" anchor="ctr" anchorCtr="1">
              <a:noAutofit/>
            </a:bodyPr>
            <a:p>
              <a:pPr marL="457200" algn="ctr">
                <a:lnSpc>
                  <a:spcPct val="12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Item </a:t>
              </a:r>
              <a:br>
                <a:rPr sz="3000"/>
              </a:br>
              <a:r>
                <a:rPr b="1" lang="en-US" sz="3000" spc="-1" strike="noStrike">
                  <a:solidFill>
                    <a:srgbClr val="000000"/>
                  </a:solidFill>
                  <a:latin typeface="Arial"/>
                </a:rPr>
                <a:t>descriptio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3E400-D795-405D-BB43-7BE65F42B9F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04920" y="533520"/>
            <a:ext cx="60195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Quantif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1905120"/>
            <a:ext cx="7848720" cy="3369960"/>
          </a:xfrm>
          <a:prstGeom prst="rect">
            <a:avLst/>
          </a:prstGeom>
          <a:solidFill>
            <a:srgbClr val="00007d"/>
          </a:solidFill>
          <a:ln w="0">
            <a:noFill/>
          </a:ln>
          <a:effectLst>
            <a:outerShdw dist="107932" dir="2700000" blurRad="0" rotWithShape="0">
              <a:srgbClr val="00007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Quantification</a:t>
            </a:r>
            <a:r>
              <a:rPr b="0" lang="en-US" sz="3200" spc="-1" strike="noStrike">
                <a:solidFill>
                  <a:srgbClr val="ffcc00"/>
                </a:solidFill>
                <a:latin typeface="Verdana"/>
              </a:rPr>
              <a:t> is a process for calculating how much is required of any particular item for a given period of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68C1D4-8C0C-4008-BABB-B91C3D53E35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Whe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 part of annual health care plan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hen implementing a new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 preparation for a potential or newly identified epid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72440C-32F6-416D-973D-CA03B3501D1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 </a:t>
            </a:r>
            <a:r>
              <a:rPr b="1" lang="en-US" sz="3600" spc="-1" strike="noStrike">
                <a:solidFill>
                  <a:srgbClr val="e40202"/>
                </a:solidFill>
                <a:latin typeface="Verdana"/>
              </a:rPr>
              <a:t>How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33520" y="1752120"/>
            <a:ext cx="822960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sumption-based method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rbidity-based meth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31AE1-43BE-4C9D-937E-8AB4C1AC72A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Consumption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6934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ased on the actual us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health supplies actually u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astage–expired or spoiled supp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plies out of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tock for mor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than 15 day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uring any time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of the ye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4191120" y="3581280"/>
          <a:ext cx="4267080" cy="2860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581280"/>
                    <a:ext cx="4267080" cy="286092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185E63-DA36-47C8-8F91-D0DB06EA5B4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Quantification: Morbidity-bas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ased on the actual number of episodes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st take into account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pulation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ease incid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ccuracy of morbidity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reatment guide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5486400" y="2209680"/>
          <a:ext cx="3429000" cy="403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86400" y="2209680"/>
                    <a:ext cx="3429000" cy="4038840"/>
                  </a:xfrm>
                  <a:prstGeom prst="rect">
                    <a:avLst/>
                  </a:prstGeom>
                  <a:ln w="2844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6A07B4-3359-4075-8090-8063C802322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ventory Control: Document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380520" y="1142640"/>
            <a:ext cx="8458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intain record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t numb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ss or fail acceptance criter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e placed in service or dispos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y be useful to keep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s in stockroo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5105520" y="4038480"/>
            <a:ext cx="2361960" cy="2381400"/>
          </a:xfrm>
          <a:prstGeom prst="rect">
            <a:avLst/>
          </a:prstGeom>
          <a:ln w="0">
            <a:noFill/>
          </a:ln>
        </p:spPr>
      </p:pic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 rot="2522400">
            <a:off x="6997320" y="5011560"/>
            <a:ext cx="1600200" cy="1476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BCC2E-15ED-4B84-B40C-1A42DB3EE416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8" name="Object 2"/>
          <p:cNvGraphicFramePr/>
          <p:nvPr/>
        </p:nvGraphicFramePr>
        <p:xfrm>
          <a:off x="4572000" y="1371600"/>
          <a:ext cx="4572000" cy="5029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371600"/>
                    <a:ext cx="4572000" cy="502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tock Logboo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80520" y="1066320"/>
            <a:ext cx="441972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clud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ame and signa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rece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quant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ate of expi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minimum sto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tock bal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Other informa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shelf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3"/>
          <a:stretch/>
        </p:blipFill>
        <p:spPr>
          <a:xfrm>
            <a:off x="5029200" y="3429000"/>
            <a:ext cx="3333600" cy="2743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FC5AF7-6EAD-442E-AF48-CFC363A5E9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scribe the steps required to implement an inventory control pro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ame factors to consider in procurement of suppl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 monitoring plan for the inventory syste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cuss the importance of documentation related to purchasing and invent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16CF0E-A983-467B-9745-49F9CE04F56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76312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spect new orders at time of delive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80880" y="17521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ify 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eck integ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date each item receiv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cord expiration d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tore new shipment behind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isting shi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reate or update rec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5791320" y="3657600"/>
            <a:ext cx="2381040" cy="2133720"/>
          </a:xfrm>
          <a:prstGeom prst="rect">
            <a:avLst/>
          </a:prstGeom>
          <a:ln w="0">
            <a:noFill/>
          </a:ln>
        </p:spPr>
      </p:pic>
      <p:pic>
        <p:nvPicPr>
          <p:cNvPr id="316" name="" descr=""/>
          <p:cNvPicPr/>
          <p:nvPr/>
        </p:nvPicPr>
        <p:blipFill>
          <a:blip r:embed="rId2"/>
          <a:stretch/>
        </p:blipFill>
        <p:spPr>
          <a:xfrm>
            <a:off x="6526080" y="1295280"/>
            <a:ext cx="2130480" cy="2590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F88FC1-2D98-411F-AB72-60BEC89F760E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torage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50292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Storero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e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rganiz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ock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ell-ventila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no direct sunligh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ood, sturdy shelv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tems within rea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-250200">
              <a:lnSpc>
                <a:spcPct val="10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fety precautions</a:t>
            </a:r>
            <a:br>
              <a:rPr sz="28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vail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50200"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9" name="" descr=""/>
          <p:cNvPicPr/>
          <p:nvPr/>
        </p:nvPicPr>
        <p:blipFill>
          <a:blip r:embed="rId1"/>
          <a:srcRect l="10457" t="0" r="19171" b="0"/>
          <a:stretch/>
        </p:blipFill>
        <p:spPr>
          <a:xfrm>
            <a:off x="5029200" y="1219320"/>
            <a:ext cx="3692520" cy="3643200"/>
          </a:xfrm>
          <a:prstGeom prst="rect">
            <a:avLst/>
          </a:prstGeom>
          <a:ln w="0">
            <a:noFill/>
          </a:ln>
        </p:spPr>
      </p:pic>
      <p:pic>
        <p:nvPicPr>
          <p:cNvPr id="320" name="" descr=""/>
          <p:cNvPicPr/>
          <p:nvPr/>
        </p:nvPicPr>
        <p:blipFill>
          <a:blip r:embed="rId2"/>
          <a:srcRect l="0" t="31201" r="36800" b="0"/>
          <a:stretch/>
        </p:blipFill>
        <p:spPr>
          <a:xfrm>
            <a:off x="5029200" y="3657600"/>
            <a:ext cx="3689280" cy="267660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6019920" y="3962520"/>
            <a:ext cx="213336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3"/>
          <a:stretch/>
        </p:blipFill>
        <p:spPr>
          <a:xfrm>
            <a:off x="6019920" y="1523880"/>
            <a:ext cx="1844640" cy="1933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5E6C7-BDE5-4B4F-BB7C-D9815EBB893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7d"/>
                </a:solidFill>
                <a:latin typeface="Verdana"/>
              </a:rPr>
              <a:t>Shelv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3581280" y="4724280"/>
            <a:ext cx="1946520" cy="1540080"/>
          </a:xfrm>
          <a:prstGeom prst="rect">
            <a:avLst/>
          </a:prstGeom>
          <a:ln w="0">
            <a:noFill/>
          </a:ln>
        </p:spPr>
      </p:pic>
      <p:sp>
        <p:nvSpPr>
          <p:cNvPr id="325" name=""/>
          <p:cNvSpPr/>
          <p:nvPr/>
        </p:nvSpPr>
        <p:spPr>
          <a:xfrm>
            <a:off x="457200" y="1295280"/>
            <a:ext cx="2286000" cy="7621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457200" y="1447920"/>
            <a:ext cx="4672080" cy="3825720"/>
          </a:xfrm>
          <a:prstGeom prst="rect">
            <a:avLst/>
          </a:prstGeom>
          <a:ln w="0">
            <a:noFill/>
          </a:ln>
        </p:spPr>
      </p:pic>
      <p:sp>
        <p:nvSpPr>
          <p:cNvPr id="327" name=""/>
          <p:cNvSpPr/>
          <p:nvPr/>
        </p:nvSpPr>
        <p:spPr>
          <a:xfrm>
            <a:off x="685800" y="5334120"/>
            <a:ext cx="297180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Follow safety precau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3"/>
          <a:stretch/>
        </p:blipFill>
        <p:spPr>
          <a:xfrm>
            <a:off x="5181480" y="1447920"/>
            <a:ext cx="3013200" cy="3124080"/>
          </a:xfrm>
          <a:prstGeom prst="rect">
            <a:avLst/>
          </a:prstGeom>
          <a:ln w="0">
            <a:noFill/>
          </a:ln>
        </p:spPr>
      </p:pic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7010280" y="3352680"/>
            <a:ext cx="2133720" cy="187956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685800" y="2590920"/>
            <a:ext cx="685800" cy="231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572000" y="4343400"/>
            <a:ext cx="2133720" cy="2057400"/>
          </a:xfrm>
          <a:prstGeom prst="noSmoking">
            <a:avLst>
              <a:gd name="adj" fmla="val 12500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639E7D-78F9-4AD8-9FBC-645DF8CE240B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5345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Shelf Organiz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0010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voids “losing” a produ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aves 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ystemizes storage spa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Number cold ro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or refrige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nd freezers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abel shel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562720" y="1523880"/>
            <a:ext cx="3429000" cy="2889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rcRect l="0" t="0" r="0" b="25408"/>
          <a:stretch/>
        </p:blipFill>
        <p:spPr>
          <a:xfrm>
            <a:off x="3429000" y="4267080"/>
            <a:ext cx="3703680" cy="1941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50522D-7F7C-403E-B7C5-C748B538A24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Use clearly visible dating label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09120" y="1523880"/>
            <a:ext cx="80010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op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ate expi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4" descr=""/>
          <p:cNvPicPr/>
          <p:nvPr/>
        </p:nvPicPr>
        <p:blipFill>
          <a:blip r:embed="rId1"/>
          <a:stretch/>
        </p:blipFill>
        <p:spPr>
          <a:xfrm>
            <a:off x="3276720" y="2743200"/>
            <a:ext cx="4343400" cy="302724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4495680" y="3657600"/>
            <a:ext cx="2743200" cy="685800"/>
          </a:xfrm>
          <a:prstGeom prst="flowChartAlternateProcess">
            <a:avLst/>
          </a:prstGeom>
          <a:noFill/>
          <a:ln w="9360">
            <a:solidFill>
              <a:srgbClr val="e4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14600" y="3581280"/>
            <a:ext cx="1981080" cy="609840"/>
          </a:xfrm>
          <a:prstGeom prst="rightArrow">
            <a:avLst>
              <a:gd name="adj1" fmla="val 50000"/>
              <a:gd name="adj2" fmla="val 81213"/>
            </a:avLst>
          </a:prstGeom>
          <a:solidFill>
            <a:srgbClr val="e4020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876920" y="3429000"/>
            <a:ext cx="22096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162920" y="3352680"/>
            <a:ext cx="1600200" cy="381240"/>
          </a:xfrm>
          <a:prstGeom prst="leftArrow">
            <a:avLst>
              <a:gd name="adj1" fmla="val 50000"/>
              <a:gd name="adj2" fmla="val 10493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AFC6C0-6B04-4CB6-A898-51B88DD8FFF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458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tinuous Monitoring of Invento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048120" y="1371600"/>
            <a:ext cx="3047760" cy="129528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943600" y="3276720"/>
            <a:ext cx="2743200" cy="1447560"/>
          </a:xfrm>
          <a:prstGeom prst="ellipse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3200400" y="4876920"/>
            <a:ext cx="2666880" cy="152388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3200400"/>
            <a:ext cx="2210040" cy="1523880"/>
          </a:xfrm>
          <a:prstGeom prst="ellipse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743200" y="1371600"/>
            <a:ext cx="3200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048120" y="525780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duct weekly physical cou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33520" y="3429000"/>
            <a:ext cx="205740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3352680"/>
            <a:ext cx="281916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intain </a:t>
            </a:r>
            <a:br>
              <a:rPr sz="20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ventory syste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in all storage ar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666880" y="2438280"/>
            <a:ext cx="3733920" cy="2895840"/>
          </a:xfrm>
          <a:custGeom>
            <a:avLst/>
            <a:gdLst>
              <a:gd name="textAreaLeft" fmla="*/ 933480 w 3733920"/>
              <a:gd name="textAreaRight" fmla="*/ 2800440 w 3733920"/>
              <a:gd name="textAreaTop" fmla="*/ 723960 h 2895840"/>
              <a:gd name="textAreaBottom" fmla="*/ 2171880 h 2895840"/>
            </a:gdLst>
            <a:ahLst/>
            <a:rect l="textAreaLeft" t="textAreaTop" r="textAreaRight" b="textAreaBottom"/>
            <a:pathLst>
              <a:path w="21600" h="21600">
                <a:moveTo>
                  <a:pt x="5400" y="5400"/>
                </a:moveTo>
                <a:lnTo>
                  <a:pt x="9400" y="5400"/>
                </a:lnTo>
                <a:lnTo>
                  <a:pt x="9400" y="2700"/>
                </a:lnTo>
                <a:lnTo>
                  <a:pt x="8100" y="2700"/>
                </a:lnTo>
                <a:lnTo>
                  <a:pt x="10800" y="0"/>
                </a:lnTo>
                <a:lnTo>
                  <a:pt x="13500" y="2700"/>
                </a:lnTo>
                <a:lnTo>
                  <a:pt x="12200" y="2700"/>
                </a:lnTo>
                <a:lnTo>
                  <a:pt x="12200" y="5400"/>
                </a:lnTo>
                <a:lnTo>
                  <a:pt x="16200" y="5400"/>
                </a:lnTo>
                <a:lnTo>
                  <a:pt x="16200" y="9400"/>
                </a:lnTo>
                <a:lnTo>
                  <a:pt x="18900" y="9400"/>
                </a:lnTo>
                <a:lnTo>
                  <a:pt x="18900" y="8100"/>
                </a:lnTo>
                <a:lnTo>
                  <a:pt x="21600" y="10800"/>
                </a:lnTo>
                <a:lnTo>
                  <a:pt x="18900" y="13500"/>
                </a:lnTo>
                <a:lnTo>
                  <a:pt x="18900" y="12200"/>
                </a:lnTo>
                <a:lnTo>
                  <a:pt x="16200" y="12200"/>
                </a:lnTo>
                <a:lnTo>
                  <a:pt x="16200" y="16200"/>
                </a:lnTo>
                <a:lnTo>
                  <a:pt x="12200" y="16200"/>
                </a:lnTo>
                <a:lnTo>
                  <a:pt x="12200" y="18900"/>
                </a:lnTo>
                <a:lnTo>
                  <a:pt x="13500" y="18900"/>
                </a:lnTo>
                <a:lnTo>
                  <a:pt x="10800" y="21600"/>
                </a:lnTo>
                <a:lnTo>
                  <a:pt x="8100" y="18900"/>
                </a:lnTo>
                <a:lnTo>
                  <a:pt x="9400" y="18900"/>
                </a:lnTo>
                <a:lnTo>
                  <a:pt x="9400" y="16200"/>
                </a:lnTo>
                <a:lnTo>
                  <a:pt x="5400" y="16200"/>
                </a:lnTo>
                <a:lnTo>
                  <a:pt x="5400" y="12200"/>
                </a:lnTo>
                <a:lnTo>
                  <a:pt x="2700" y="12200"/>
                </a:lnTo>
                <a:lnTo>
                  <a:pt x="2700" y="13500"/>
                </a:lnTo>
                <a:lnTo>
                  <a:pt x="0" y="10800"/>
                </a:lnTo>
                <a:lnTo>
                  <a:pt x="2700" y="8100"/>
                </a:lnTo>
                <a:lnTo>
                  <a:pt x="2700" y="9400"/>
                </a:lnTo>
                <a:lnTo>
                  <a:pt x="5400" y="9400"/>
                </a:lnTo>
                <a:close/>
              </a:path>
            </a:pathLst>
          </a:cu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3048120" y="3352680"/>
            <a:ext cx="2438280" cy="16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ventory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algn="ctr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4AF44-2E45-4045-A524-A460B2C0576E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Computerized Stock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Advantag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xact current state of stock, product classif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expiration 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statistics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planning purchase ord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nagement of possible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makes inventory tasks easi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Drawback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on-site computer is need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15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quires trained sta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6" name="" descr=""/>
          <p:cNvPicPr/>
          <p:nvPr/>
        </p:nvPicPr>
        <p:blipFill>
          <a:blip r:embed="rId1"/>
          <a:srcRect l="5000" t="2667" r="18000" b="4000"/>
          <a:stretch/>
        </p:blipFill>
        <p:spPr>
          <a:xfrm>
            <a:off x="5638680" y="3505320"/>
            <a:ext cx="2895840" cy="26319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1FF278-C103-4598-A499-A2C0724D07F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well-managed laboratory will have a system for inventory maintenance and purchasing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ystem will require planning and monitoring: analyzing needs, developing forms and procedures, and maintaining an inventory. The laboratory will maintain an inventory system for all reagents and supplies used in the laborator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0C672-77F7-45FC-9F35-2716D062DEB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ing inventory results in: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d laboratory efficiency and effective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urance that patient or clinical needs are m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00007d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ducts available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97C879-3BCD-43D9-BB0C-6AFF8F38409F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866920" y="762120"/>
            <a:ext cx="304812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Questions?</a:t>
            </a:r>
            <a:br>
              <a:rPr sz="3600"/>
            </a:b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omments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85800" y="762120"/>
            <a:ext cx="5181480" cy="5409720"/>
            <a:chOff x="685800" y="762120"/>
            <a:chExt cx="5181480" cy="5409720"/>
          </a:xfrm>
        </p:grpSpPr>
        <p:sp>
          <p:nvSpPr>
            <p:cNvPr id="363" name="AutoShape 4"/>
            <p:cNvSpPr/>
            <p:nvPr/>
          </p:nvSpPr>
          <p:spPr>
            <a:xfrm>
              <a:off x="685800" y="7621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9"/>
            <p:cNvSpPr/>
            <p:nvPr/>
          </p:nvSpPr>
          <p:spPr>
            <a:xfrm>
              <a:off x="2930400" y="36097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10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11"/>
            <p:cNvSpPr/>
            <p:nvPr/>
          </p:nvSpPr>
          <p:spPr>
            <a:xfrm>
              <a:off x="2898720" y="36014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12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13"/>
            <p:cNvSpPr/>
            <p:nvPr/>
          </p:nvSpPr>
          <p:spPr>
            <a:xfrm>
              <a:off x="3160440" y="23068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16"/>
            <p:cNvSpPr/>
            <p:nvPr/>
          </p:nvSpPr>
          <p:spPr>
            <a:xfrm>
              <a:off x="1565280" y="29678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22"/>
            <p:cNvSpPr/>
            <p:nvPr/>
          </p:nvSpPr>
          <p:spPr>
            <a:xfrm>
              <a:off x="1554120" y="29048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24"/>
            <p:cNvSpPr/>
            <p:nvPr/>
          </p:nvSpPr>
          <p:spPr>
            <a:xfrm flipH="1" flipV="1">
              <a:off x="3339720" y="57686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25"/>
            <p:cNvSpPr/>
            <p:nvPr/>
          </p:nvSpPr>
          <p:spPr>
            <a:xfrm flipV="1">
              <a:off x="3078000" y="45975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27"/>
            <p:cNvSpPr/>
            <p:nvPr/>
          </p:nvSpPr>
          <p:spPr>
            <a:xfrm>
              <a:off x="4876560" y="14281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27"/>
            <p:cNvSpPr/>
            <p:nvPr/>
          </p:nvSpPr>
          <p:spPr>
            <a:xfrm>
              <a:off x="3276360" y="15872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27"/>
            <p:cNvSpPr/>
            <p:nvPr/>
          </p:nvSpPr>
          <p:spPr>
            <a:xfrm>
              <a:off x="1600200" y="16369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27"/>
            <p:cNvSpPr/>
            <p:nvPr/>
          </p:nvSpPr>
          <p:spPr>
            <a:xfrm flipH="1">
              <a:off x="1294920" y="14760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Group 65"/>
            <p:cNvGrpSpPr/>
            <p:nvPr/>
          </p:nvGrpSpPr>
          <p:grpSpPr>
            <a:xfrm>
              <a:off x="990360" y="854640"/>
              <a:ext cx="1261800" cy="1189800"/>
              <a:chOff x="990360" y="854640"/>
              <a:chExt cx="1261800" cy="1189800"/>
            </a:xfrm>
          </p:grpSpPr>
          <p:grpSp>
            <p:nvGrpSpPr>
              <p:cNvPr id="378" name="Group 66"/>
              <p:cNvGrpSpPr/>
              <p:nvPr/>
            </p:nvGrpSpPr>
            <p:grpSpPr>
              <a:xfrm>
                <a:off x="990360" y="854640"/>
                <a:ext cx="1239120" cy="1189800"/>
                <a:chOff x="990360" y="854640"/>
                <a:chExt cx="1239120" cy="1189800"/>
              </a:xfrm>
            </p:grpSpPr>
            <p:grpSp>
              <p:nvGrpSpPr>
                <p:cNvPr id="379" name="Group 67"/>
                <p:cNvGrpSpPr/>
                <p:nvPr/>
              </p:nvGrpSpPr>
              <p:grpSpPr>
                <a:xfrm>
                  <a:off x="1041840" y="854640"/>
                  <a:ext cx="1152360" cy="1189800"/>
                  <a:chOff x="1041840" y="854640"/>
                  <a:chExt cx="1152360" cy="1189800"/>
                </a:xfrm>
              </p:grpSpPr>
              <p:sp>
                <p:nvSpPr>
                  <p:cNvPr id="380" name="Freeform 68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Freeform 69"/>
                  <p:cNvSpPr/>
                  <p:nvPr/>
                </p:nvSpPr>
                <p:spPr>
                  <a:xfrm>
                    <a:off x="1041840" y="8546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2" name="Text Box 70"/>
                <p:cNvSpPr/>
                <p:nvPr/>
              </p:nvSpPr>
              <p:spPr>
                <a:xfrm>
                  <a:off x="990360" y="11289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3" name="Text Box 71"/>
              <p:cNvSpPr/>
              <p:nvPr/>
            </p:nvSpPr>
            <p:spPr>
              <a:xfrm>
                <a:off x="1013040" y="12765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4" name="Group 72"/>
            <p:cNvGrpSpPr/>
            <p:nvPr/>
          </p:nvGrpSpPr>
          <p:grpSpPr>
            <a:xfrm>
              <a:off x="2646360" y="854640"/>
              <a:ext cx="1239840" cy="1189800"/>
              <a:chOff x="2646360" y="854640"/>
              <a:chExt cx="1239840" cy="1189800"/>
            </a:xfrm>
          </p:grpSpPr>
          <p:sp>
            <p:nvSpPr>
              <p:cNvPr id="385" name="Freeform 73"/>
              <p:cNvSpPr/>
              <p:nvPr/>
            </p:nvSpPr>
            <p:spPr>
              <a:xfrm>
                <a:off x="2687040" y="8546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6" name="Text Box 74"/>
              <p:cNvSpPr/>
              <p:nvPr/>
            </p:nvSpPr>
            <p:spPr>
              <a:xfrm>
                <a:off x="2646360" y="12765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87" name="Group 75"/>
            <p:cNvGrpSpPr/>
            <p:nvPr/>
          </p:nvGrpSpPr>
          <p:grpSpPr>
            <a:xfrm>
              <a:off x="4246560" y="854640"/>
              <a:ext cx="1239840" cy="1189800"/>
              <a:chOff x="4246560" y="854640"/>
              <a:chExt cx="1239840" cy="1189800"/>
            </a:xfrm>
          </p:grpSpPr>
          <p:grpSp>
            <p:nvGrpSpPr>
              <p:cNvPr id="388" name="Group 76"/>
              <p:cNvGrpSpPr/>
              <p:nvPr/>
            </p:nvGrpSpPr>
            <p:grpSpPr>
              <a:xfrm>
                <a:off x="4291920" y="854640"/>
                <a:ext cx="1153080" cy="1189800"/>
                <a:chOff x="4291920" y="854640"/>
                <a:chExt cx="1153080" cy="1189800"/>
              </a:xfrm>
            </p:grpSpPr>
            <p:sp>
              <p:nvSpPr>
                <p:cNvPr id="389" name="Freeform 77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78"/>
                <p:cNvSpPr/>
                <p:nvPr/>
              </p:nvSpPr>
              <p:spPr>
                <a:xfrm>
                  <a:off x="4291920" y="8546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91" name="Text Box 79"/>
              <p:cNvSpPr/>
              <p:nvPr/>
            </p:nvSpPr>
            <p:spPr>
              <a:xfrm>
                <a:off x="4246560" y="12808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2" name="Line 27"/>
            <p:cNvSpPr/>
            <p:nvPr/>
          </p:nvSpPr>
          <p:spPr>
            <a:xfrm flipH="1">
              <a:off x="1371240" y="28288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3" name=""/>
            <p:cNvGrpSpPr/>
            <p:nvPr/>
          </p:nvGrpSpPr>
          <p:grpSpPr>
            <a:xfrm>
              <a:off x="990360" y="2194200"/>
              <a:ext cx="1241280" cy="1189440"/>
              <a:chOff x="990360" y="2194200"/>
              <a:chExt cx="1241280" cy="1189440"/>
            </a:xfrm>
          </p:grpSpPr>
          <p:sp>
            <p:nvSpPr>
              <p:cNvPr id="394" name="Freeform 46"/>
              <p:cNvSpPr/>
              <p:nvPr/>
            </p:nvSpPr>
            <p:spPr>
              <a:xfrm>
                <a:off x="995040" y="21942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5" name="Text Box 47"/>
              <p:cNvSpPr/>
              <p:nvPr/>
            </p:nvSpPr>
            <p:spPr>
              <a:xfrm>
                <a:off x="990360" y="24807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6" name="Freeform 31"/>
            <p:cNvSpPr/>
            <p:nvPr/>
          </p:nvSpPr>
          <p:spPr>
            <a:xfrm>
              <a:off x="2695320" y="22568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Text Box 43"/>
            <p:cNvSpPr/>
            <p:nvPr/>
          </p:nvSpPr>
          <p:spPr>
            <a:xfrm>
              <a:off x="2735280" y="22734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"/>
            <p:cNvGrpSpPr/>
            <p:nvPr/>
          </p:nvGrpSpPr>
          <p:grpSpPr>
            <a:xfrm>
              <a:off x="4190760" y="2212200"/>
              <a:ext cx="1336680" cy="1189440"/>
              <a:chOff x="4190760" y="2212200"/>
              <a:chExt cx="1336680" cy="1189440"/>
            </a:xfrm>
          </p:grpSpPr>
          <p:sp>
            <p:nvSpPr>
              <p:cNvPr id="399" name="Freeform 48"/>
              <p:cNvSpPr/>
              <p:nvPr/>
            </p:nvSpPr>
            <p:spPr>
              <a:xfrm>
                <a:off x="4267080" y="22122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Text Box 55"/>
              <p:cNvSpPr/>
              <p:nvPr/>
            </p:nvSpPr>
            <p:spPr>
              <a:xfrm>
                <a:off x="4190760" y="25120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1" name="Line 27"/>
            <p:cNvSpPr/>
            <p:nvPr/>
          </p:nvSpPr>
          <p:spPr>
            <a:xfrm flipH="1">
              <a:off x="1294920" y="41036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02" name=""/>
            <p:cNvGrpSpPr/>
            <p:nvPr/>
          </p:nvGrpSpPr>
          <p:grpSpPr>
            <a:xfrm>
              <a:off x="990360" y="3553200"/>
              <a:ext cx="1239840" cy="1190880"/>
              <a:chOff x="990360" y="3553200"/>
              <a:chExt cx="1239840" cy="1190880"/>
            </a:xfrm>
          </p:grpSpPr>
          <p:sp>
            <p:nvSpPr>
              <p:cNvPr id="403" name="Freeform 81"/>
              <p:cNvSpPr/>
              <p:nvPr/>
            </p:nvSpPr>
            <p:spPr>
              <a:xfrm>
                <a:off x="1022400" y="35532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Text Box 82"/>
              <p:cNvSpPr/>
              <p:nvPr/>
            </p:nvSpPr>
            <p:spPr>
              <a:xfrm>
                <a:off x="990360" y="37850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5" name=""/>
            <p:cNvGrpSpPr/>
            <p:nvPr/>
          </p:nvGrpSpPr>
          <p:grpSpPr>
            <a:xfrm>
              <a:off x="2646360" y="3553200"/>
              <a:ext cx="1239840" cy="1190880"/>
              <a:chOff x="2646360" y="3553200"/>
              <a:chExt cx="1239840" cy="1190880"/>
            </a:xfrm>
          </p:grpSpPr>
          <p:sp>
            <p:nvSpPr>
              <p:cNvPr id="406" name="Freeform 30"/>
              <p:cNvSpPr/>
              <p:nvPr/>
            </p:nvSpPr>
            <p:spPr>
              <a:xfrm>
                <a:off x="2673360" y="35532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Text Box 54"/>
              <p:cNvSpPr/>
              <p:nvPr/>
            </p:nvSpPr>
            <p:spPr>
              <a:xfrm>
                <a:off x="2646360" y="38034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08" name="Freeform 50"/>
            <p:cNvSpPr/>
            <p:nvPr/>
          </p:nvSpPr>
          <p:spPr>
            <a:xfrm>
              <a:off x="4267080" y="35463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Text Box 51"/>
            <p:cNvSpPr/>
            <p:nvPr/>
          </p:nvSpPr>
          <p:spPr>
            <a:xfrm>
              <a:off x="4246560" y="36262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 flipH="1">
              <a:off x="1371240" y="54543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1" name=""/>
            <p:cNvGrpSpPr/>
            <p:nvPr/>
          </p:nvGrpSpPr>
          <p:grpSpPr>
            <a:xfrm>
              <a:off x="914400" y="4902120"/>
              <a:ext cx="1420560" cy="1189440"/>
              <a:chOff x="914400" y="4902120"/>
              <a:chExt cx="1420560" cy="1189440"/>
            </a:xfrm>
          </p:grpSpPr>
          <p:sp>
            <p:nvSpPr>
              <p:cNvPr id="412" name="Freeform 57"/>
              <p:cNvSpPr/>
              <p:nvPr/>
            </p:nvSpPr>
            <p:spPr>
              <a:xfrm>
                <a:off x="1063440" y="49021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Text Box 58"/>
              <p:cNvSpPr/>
              <p:nvPr/>
            </p:nvSpPr>
            <p:spPr>
              <a:xfrm>
                <a:off x="914400" y="51372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4" name=""/>
            <p:cNvGrpSpPr/>
            <p:nvPr/>
          </p:nvGrpSpPr>
          <p:grpSpPr>
            <a:xfrm>
              <a:off x="2646360" y="4834080"/>
              <a:ext cx="1239840" cy="1189800"/>
              <a:chOff x="2646360" y="4834080"/>
              <a:chExt cx="1239840" cy="1189800"/>
            </a:xfrm>
          </p:grpSpPr>
          <p:sp>
            <p:nvSpPr>
              <p:cNvPr id="415" name="Freeform 34"/>
              <p:cNvSpPr/>
              <p:nvPr/>
            </p:nvSpPr>
            <p:spPr>
              <a:xfrm>
                <a:off x="2695320" y="48340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Text Box 61"/>
              <p:cNvSpPr/>
              <p:nvPr/>
            </p:nvSpPr>
            <p:spPr>
              <a:xfrm>
                <a:off x="2646360" y="51372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17" name=""/>
            <p:cNvGrpSpPr/>
            <p:nvPr/>
          </p:nvGrpSpPr>
          <p:grpSpPr>
            <a:xfrm>
              <a:off x="4267080" y="4902120"/>
              <a:ext cx="1239840" cy="1189440"/>
              <a:chOff x="4267080" y="4902120"/>
              <a:chExt cx="1239840" cy="1189440"/>
            </a:xfrm>
          </p:grpSpPr>
          <p:sp>
            <p:nvSpPr>
              <p:cNvPr id="418" name="Freeform 63"/>
              <p:cNvSpPr/>
              <p:nvPr/>
            </p:nvSpPr>
            <p:spPr>
              <a:xfrm>
                <a:off x="4286160" y="49021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Text Box 64"/>
              <p:cNvSpPr/>
              <p:nvPr/>
            </p:nvSpPr>
            <p:spPr>
              <a:xfrm>
                <a:off x="4267080" y="51372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18E8D-42AC-418F-BCDB-245CF5EB611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cenari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853452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lnSpc>
                <a:spcPct val="125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Your laboratory is asked to gear up for a potential flu epidemic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.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urchasing and inventory factors do you need to consider in planning f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s proces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4840" indent="0">
              <a:lnSpc>
                <a:spcPct val="125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2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hat problems might you encounter in planning and implementation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76A70F-EB5D-4F0E-89F6-8A0F251CD27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80010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35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9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50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51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52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5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6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57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 Box 74"/>
              <p:cNvSpPr/>
              <p:nvPr/>
            </p:nvSpPr>
            <p:spPr>
              <a:xfrm>
                <a:off x="4094280" y="150516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60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61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4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5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66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71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3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75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7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78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3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84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87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90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1DBA0B-826A-450C-8FCF-F2D5ABD029D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685800" y="609480"/>
            <a:ext cx="7696080" cy="1828800"/>
          </a:xfrm>
          <a:prstGeom prst="flowChartAlternateProcess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Benefits of an </a:t>
            </a:r>
            <a:br>
              <a:rPr sz="3200"/>
            </a:br>
            <a:r>
              <a:rPr b="1" lang="en-US" sz="3200" spc="-1" strike="noStrike">
                <a:solidFill>
                  <a:srgbClr val="ffcc00"/>
                </a:solidFill>
                <a:latin typeface="Verdana"/>
              </a:rPr>
              <a:t>Inventory Managemen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04920" y="2895480"/>
            <a:ext cx="3124080" cy="3048120"/>
          </a:xfrm>
          <a:prstGeom prst="ellipse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867280" y="3048120"/>
            <a:ext cx="3048120" cy="2666880"/>
          </a:xfrm>
          <a:prstGeom prst="flowChartProcess">
            <a:avLst/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09480" y="3352680"/>
            <a:ext cx="2438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plies and reagents always  avail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3200400"/>
            <a:ext cx="2666880" cy="147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nimize wastag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y within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6400800" y="4343400"/>
            <a:ext cx="2152800" cy="1380960"/>
          </a:xfrm>
          <a:prstGeom prst="rect">
            <a:avLst/>
          </a:prstGeom>
          <a:ln w="0">
            <a:noFill/>
          </a:ln>
        </p:spPr>
      </p:pic>
      <p:sp>
        <p:nvSpPr>
          <p:cNvPr id="198" name=""/>
          <p:cNvSpPr/>
          <p:nvPr/>
        </p:nvSpPr>
        <p:spPr>
          <a:xfrm>
            <a:off x="3200400" y="3200400"/>
            <a:ext cx="2895480" cy="297180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678240 h 2971800"/>
              <a:gd name="textAreaBottom" fmla="*/ 229356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d911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505320" y="4038480"/>
            <a:ext cx="213336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main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rcRect l="36735" t="28750" r="27152" b="59634"/>
          <a:stretch/>
        </p:blipFill>
        <p:spPr>
          <a:xfrm rot="21264600">
            <a:off x="761760" y="4343400"/>
            <a:ext cx="2295360" cy="110664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 flipH="1">
            <a:off x="2590560" y="2438280"/>
            <a:ext cx="53316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572000" y="2438280"/>
            <a:ext cx="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095880" y="2438280"/>
            <a:ext cx="609840" cy="4572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A090A-07A9-4455-AB00-E821AF4A8B8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Inventory Management Challen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lance between stock availabilit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nd expiration dates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ife-span of laboratory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agents vari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IA reagents: 3 to 8 week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PI kits: 4 to 1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sera: 1 to 4 yea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tibiotic disks: 2 to 3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Ready-to-use culture media: 1 to 2 month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ehydrated culture media: 3 to 5 ye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4724280" y="1828800"/>
            <a:ext cx="3886200" cy="327348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5257800" y="3124080"/>
            <a:ext cx="838080" cy="642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-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toc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391520" y="2895480"/>
            <a:ext cx="914400" cy="9169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xpiry </a:t>
            </a:r>
            <a:br>
              <a:rPr sz="1800"/>
            </a:b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D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A445DF-7D86-4DDB-9CD6-E553B4BE3AE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6840" y="45720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Key Components for Purchasing and Inventory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419720" y="2362320"/>
            <a:ext cx="1752480" cy="13716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In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Arial"/>
              </a:rPr>
              <a:t>Hand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162920" y="3809880"/>
            <a:ext cx="1828800" cy="1752840"/>
          </a:xfrm>
          <a:prstGeom prst="rect">
            <a:avLst/>
          </a:prstGeom>
          <a:solidFill>
            <a:srgbClr val="00007d"/>
          </a:solidFill>
          <a:ln w="57240">
            <a:solidFill>
              <a:srgbClr val="a1761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Log bo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Expiry d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Rotate sto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438280" y="4572000"/>
            <a:ext cx="2057400" cy="11430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US" sz="2800" spc="-1" strike="noStrike">
                <a:solidFill>
                  <a:srgbClr val="00007d"/>
                </a:solidFill>
                <a:latin typeface="Arial"/>
              </a:rPr>
              <a:t>Laboratory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562720" y="4267080"/>
            <a:ext cx="1066680" cy="1295640"/>
          </a:xfrm>
          <a:prstGeom prst="rect">
            <a:avLst/>
          </a:prstGeom>
          <a:solidFill>
            <a:srgbClr val="a1761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762120" y="5105520"/>
            <a:ext cx="1295280" cy="914400"/>
          </a:xfrm>
          <a:prstGeom prst="rect">
            <a:avLst/>
          </a:prstGeom>
          <a:solidFill>
            <a:srgbClr val="cccce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th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380880" y="1828800"/>
            <a:ext cx="3504600" cy="2458080"/>
            <a:chOff x="380880" y="1828800"/>
            <a:chExt cx="3504600" cy="2458080"/>
          </a:xfrm>
        </p:grpSpPr>
        <p:cxnSp>
          <p:nvCxnSpPr>
            <p:cNvPr id="216" name="_s180244"/>
            <p:cNvCxnSpPr>
              <a:stCxn id="217" idx="1"/>
              <a:endCxn id="218" idx="2"/>
            </p:cNvCxnSpPr>
            <p:nvPr/>
          </p:nvCxnSpPr>
          <p:spPr>
            <a:xfrm rot="10800000">
              <a:off x="21326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9" name="_s180243"/>
            <p:cNvCxnSpPr>
              <a:stCxn id="220" idx="3"/>
              <a:endCxn id="218" idx="2"/>
            </p:cNvCxnSpPr>
            <p:nvPr/>
          </p:nvCxnSpPr>
          <p:spPr>
            <a:xfrm flipV="1">
              <a:off x="1882440" y="2811240"/>
              <a:ext cx="250920" cy="98388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8" name="_s180239"/>
            <p:cNvSpPr/>
            <p:nvPr/>
          </p:nvSpPr>
          <p:spPr>
            <a:xfrm>
              <a:off x="1382040" y="182880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Vendor 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Qualifica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80240"/>
            <p:cNvSpPr/>
            <p:nvPr/>
          </p:nvSpPr>
          <p:spPr>
            <a:xfrm>
              <a:off x="38088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0000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Purchase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Contrac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_s180241"/>
            <p:cNvSpPr/>
            <p:nvPr/>
          </p:nvSpPr>
          <p:spPr>
            <a:xfrm>
              <a:off x="2383560" y="3303720"/>
              <a:ext cx="1501920" cy="98316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iver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86400" y="5715000"/>
            <a:ext cx="1676520" cy="762120"/>
          </a:xfrm>
          <a:prstGeom prst="octagon">
            <a:avLst>
              <a:gd name="adj" fmla="val 2928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5720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Post use</a:t>
            </a:r>
            <a:br>
              <a:rPr sz="1800"/>
            </a:br>
            <a:r>
              <a:rPr b="1" lang="en-US" sz="1800" spc="-1" strike="noStrike">
                <a:solidFill>
                  <a:srgbClr val="ffcc00"/>
                </a:solidFill>
                <a:latin typeface="Arial"/>
              </a:rPr>
              <a:t>tr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4419720" y="3733920"/>
            <a:ext cx="609480" cy="914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828440" y="4952880"/>
            <a:ext cx="609480" cy="3812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124080" y="4267080"/>
            <a:ext cx="0" cy="3049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V="1">
            <a:off x="6858000" y="5562720"/>
            <a:ext cx="380880" cy="30456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 flipH="1">
            <a:off x="7162920" y="5562720"/>
            <a:ext cx="38088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6172200" y="5486400"/>
            <a:ext cx="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077320" y="3352680"/>
            <a:ext cx="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6629400" y="3352680"/>
            <a:ext cx="457200" cy="838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72200" y="2438280"/>
            <a:ext cx="8380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10280" y="1752480"/>
            <a:ext cx="1981440" cy="168372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or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Assess condi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Mai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4"/>
          <a:stretch/>
        </p:blipFill>
        <p:spPr>
          <a:xfrm>
            <a:off x="5638680" y="4114800"/>
            <a:ext cx="949320" cy="13716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81480" y="4572000"/>
            <a:ext cx="1447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 flipV="1">
            <a:off x="1981080" y="5562720"/>
            <a:ext cx="457200" cy="3808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FA3D9-CB1C-4460-979D-F095372F8EDC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 a System to Qualify and Select Vend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fine criteria for supplies and services to be purch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 information from other labora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valuate before purchase and after receip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ADAFBA-2DE7-49F2-BC02-7BE46B5371A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urchasing Consider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29000" y="4267080"/>
            <a:ext cx="1981080" cy="16765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ter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ymen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chanism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562720" y="3733920"/>
            <a:ext cx="3352680" cy="274320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0" name=""/>
          <p:cNvGrpSpPr/>
          <p:nvPr/>
        </p:nvGrpSpPr>
        <p:grpSpPr>
          <a:xfrm>
            <a:off x="457200" y="1143000"/>
            <a:ext cx="5409720" cy="2941920"/>
            <a:chOff x="457200" y="1143000"/>
            <a:chExt cx="5409720" cy="2941920"/>
          </a:xfrm>
        </p:grpSpPr>
        <p:cxnSp>
          <p:nvCxnSpPr>
            <p:cNvPr id="241" name="_s182282"/>
            <p:cNvCxnSpPr/>
            <p:nvPr/>
          </p:nvCxnSpPr>
          <p:spPr>
            <a:xfrm rot="10800000">
              <a:off x="3198960" y="2272680"/>
              <a:ext cx="387000" cy="11937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42" name="_s182283"/>
            <p:cNvCxnSpPr/>
            <p:nvPr/>
          </p:nvCxnSpPr>
          <p:spPr>
            <a:xfrm flipV="1">
              <a:off x="2818440" y="2665080"/>
              <a:ext cx="387000" cy="11851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43" name="_s182284"/>
            <p:cNvSpPr/>
            <p:nvPr/>
          </p:nvSpPr>
          <p:spPr>
            <a:xfrm>
              <a:off x="457200" y="1143000"/>
              <a:ext cx="540972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2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buClr>
                  <a:srgbClr val="000000"/>
                </a:buClr>
                <a:buSzPct val="135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_s182285"/>
            <p:cNvSpPr/>
            <p:nvPr/>
          </p:nvSpPr>
          <p:spPr>
            <a:xfrm>
              <a:off x="531720" y="2896560"/>
              <a:ext cx="232128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Negotiate price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_s182286"/>
            <p:cNvSpPr/>
            <p:nvPr/>
          </p:nvSpPr>
          <p:spPr>
            <a:xfrm>
              <a:off x="3505320" y="2665440"/>
              <a:ext cx="2318400" cy="118836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buClr>
                  <a:srgbClr val="ffcc00"/>
                </a:buClr>
                <a:buSzPct val="130000"/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Review </a:t>
              </a:r>
              <a:br>
                <a:rPr sz="2000"/>
              </a:br>
              <a:r>
                <a:rPr b="1" lang="en-US" sz="2000" spc="-1" strike="noStrike">
                  <a:solidFill>
                    <a:srgbClr val="ffcc00"/>
                  </a:solidFill>
                  <a:latin typeface="Arial"/>
                </a:rPr>
                <a:t>Contract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5334120" y="3581280"/>
            <a:ext cx="99036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3809880"/>
            <a:ext cx="0" cy="5335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1219320"/>
            <a:ext cx="479412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Understand government requi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4114800"/>
            <a:ext cx="99072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304920" y="3809880"/>
            <a:ext cx="1992240" cy="2286000"/>
          </a:xfrm>
          <a:prstGeom prst="rect">
            <a:avLst/>
          </a:prstGeom>
          <a:ln w="0">
            <a:noFill/>
          </a:ln>
        </p:spPr>
      </p:pic>
      <p:pic>
        <p:nvPicPr>
          <p:cNvPr id="251" name="" descr=""/>
          <p:cNvPicPr/>
          <p:nvPr/>
        </p:nvPicPr>
        <p:blipFill>
          <a:blip r:embed="rId2"/>
          <a:stretch/>
        </p:blipFill>
        <p:spPr>
          <a:xfrm>
            <a:off x="5562720" y="2362320"/>
            <a:ext cx="1218960" cy="1128600"/>
          </a:xfrm>
          <a:prstGeom prst="rect">
            <a:avLst/>
          </a:prstGeom>
          <a:ln w="0">
            <a:noFill/>
          </a:ln>
        </p:spPr>
      </p:pic>
      <p:pic>
        <p:nvPicPr>
          <p:cNvPr id="252" name="" descr=""/>
          <p:cNvPicPr/>
          <p:nvPr/>
        </p:nvPicPr>
        <p:blipFill>
          <a:blip r:embed="rId3"/>
          <a:stretch/>
        </p:blipFill>
        <p:spPr>
          <a:xfrm>
            <a:off x="6400800" y="47242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5638680" y="3886200"/>
            <a:ext cx="3124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ssure reliable 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vailability, deliv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urchasing and Inventory-Module 4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B30B04-2A14-4206-A0A9-A5C5240E97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5:33Z</dcterms:modified>
  <cp:revision>109</cp:revision>
  <dc:subject/>
  <dc:title>Slide 1</dc:title>
</cp:coreProperties>
</file>